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10C-22CB-4E1A-8430-CC273483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DE2-56E5-45E7-8F30-99DC6139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1AE-DC37-45D5-99F6-E6E767E4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017-FBC6-41D9-BF56-E1551B38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3A55-836D-4B08-873F-9BF8E771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64E8-EFD9-450D-940D-44B3DAC7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5B2D-A0B1-43A6-857A-51312AD6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1C1-42F9-47AF-84B0-3C5FDCE2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5BF0-72AA-49F5-8DDD-ACF0D4C3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1CDD-0ED3-4C70-878A-EAF8B79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305-D247-45B0-8B79-3BBC7D0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5B5-495B-4721-9FF2-244FA9FB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52A-D21F-4AC5-9EF0-489156D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EF8-A4BE-49E2-A20E-E027CDF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766A-2776-4960-9FDB-5396CD1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DC7-87A0-4ACF-8569-84A59D94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D12-15F8-4045-BE64-BC1748C8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D9F-EED1-4EC8-88A3-F386C71B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D67-3CA9-4960-98C1-23B0143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F9C-0CE5-49C5-A1E6-CA3CBA64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22B-E382-4BD4-ADA7-751509F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BEA-13A0-4D00-B30A-3AAA7924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6ED-F889-4B0F-BA24-3D25498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31C-E0B2-4A2C-82E7-83E6B3E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015-8013-47B3-BDF8-934BBC4B66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46A-2CDD-4F7E-9428-83768B8477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igestive Syste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Labeled diagram of the stomach of the digestive system"/>
          <p:cNvPicPr/>
          <p:nvPr/>
        </p:nvPicPr>
        <p:blipFill>
          <a:blip r:embed="rId1"/>
          <a:stretch/>
        </p:blipFill>
        <p:spPr>
          <a:xfrm>
            <a:off x="155520" y="46080"/>
            <a:ext cx="76294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29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ltiple choi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Answ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sualizing Concep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tomy of Large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rge intestine/Col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nction of LI is to eliminate wa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of the most common inhabitants of the human colon is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Escheridia C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. Co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byproducts of their metabolism, many colon bacteria generate gases, including methane and hyrdogen sulfide. Hint:  What does Sulfur smell lik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io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relationship between two species that benefit from one anoth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cteria produce vitamins, which include folic acid, vitamin K, and several B vitamins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four stages of Dig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g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orp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min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s of the Stom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atomy of the small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odenu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here that acid chyme from the stomach mixes with digestive juices from the liver, gallbladder, and intestinal wa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function is to produce bile, stored in the gallbladder when nee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e contains no digestive enzy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e aid in the digestion and absorption of f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ste products of bile are secreted within the feces of the large intes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rete pancreatic amylase to breakdown Carbohydrates into monosaccharides and disaccharid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o the pancreas secretes trypsin to aid in the digestion of proteins-amino acid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microvillu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irlike projections located in the small intes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ncreases the surface area to increase the rate of nutrient absorp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eries of the Intest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perior and Inferior mesenteric arteries and Hepatic portal vein that drain and leads directly to the liv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42:25Z</dcterms:created>
  <dc:creator>Dischie</dc:creator>
  <dc:description/>
  <dc:language>en-US</dc:language>
  <cp:lastModifiedBy>user</cp:lastModifiedBy>
  <dcterms:modified xsi:type="dcterms:W3CDTF">2007-01-11T16:56:08Z</dcterms:modified>
  <cp:revision>6</cp:revision>
  <dc:subject/>
  <dc:title>Digestive System</dc:title>
</cp:coreProperties>
</file>